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BE25-5986-416D-B0F8-07BAE9B9BB4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63C8-D63C-461E-B5FF-3D4CA0F79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1862280" y="2214720"/>
            <a:ext cx="5572080" cy="359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00000"/>
                </a:solidFill>
                <a:latin typeface="Arial"/>
              </a:rPr>
              <a:t>Срчана инсуфицијен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Проф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 др Горан Давид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9297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едности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F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ма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YHA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ифик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14240" y="2377800"/>
            <a:ext cx="7786800" cy="347796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HA класа                                 вредност 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YHA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 ≥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YHA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 = 40-4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YHA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 = 25-3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YHA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 ≤ 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8"/>
          <p:cNvSpPr/>
          <p:nvPr/>
        </p:nvSpPr>
        <p:spPr>
          <a:xfrm>
            <a:off x="714240" y="3141720"/>
            <a:ext cx="778680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9"/>
          <p:cNvSpPr/>
          <p:nvPr/>
        </p:nvSpPr>
        <p:spPr>
          <a:xfrm flipV="1">
            <a:off x="5286240" y="2355840"/>
            <a:ext cx="0" cy="35020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2600" y="1214280"/>
            <a:ext cx="79297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 – начин постављања дијагн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733320" y="2428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тврдити присуство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714240" y="312264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ција симптома + процена озбиљности симпт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дем плућа, гушење при напору, замор, еде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704960" y="3886200"/>
            <a:ext cx="44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дити етиологију 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162160" y="45068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ључити / потврдити постојање придружених болести које изазивају или погоршавају тего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5075280" y="5791320"/>
            <a:ext cx="21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абрати терап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6447600" y="632448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тити даљи 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>
            <a:off x="2714040" y="5216400"/>
            <a:ext cx="42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видети прогнозу и комплик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ESC"/>
          <p:cNvPicPr/>
          <p:nvPr/>
        </p:nvPicPr>
        <p:blipFill>
          <a:blip r:embed="rId1"/>
          <a:stretch/>
        </p:blipFill>
        <p:spPr>
          <a:xfrm>
            <a:off x="96840" y="115920"/>
            <a:ext cx="10731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400" y="1214280"/>
            <a:ext cx="80722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 - дефини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57120" y="1165320"/>
          <a:ext cx="8429760" cy="5619600"/>
        </p:xfrm>
        <a:graphic>
          <a:graphicData uri="http://schemas.openxmlformats.org/drawingml/2006/table">
            <a:tbl>
              <a:tblPr/>
              <a:tblGrid>
                <a:gridCol w="4071960"/>
                <a:gridCol w="4357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b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ц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bc4a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ичн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ше специфич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8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не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ишен југуларнни венски притиса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ea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топне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епатојугуларни рефлук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оксизмална ноћна диспне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ћи срчани тон (ритам галоп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ea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ањена толеранција нап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ерен удар врха ср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ор, малаксалост, продужено време опоравка након вежб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чани шум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ea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ицање члана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ње типич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ње специфич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8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ћни каша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ферни едеми (чланци, сакрални део, скроту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eezing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лмоналне крепитац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e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аст ТТ (2кг/недељ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ањен инспиријум и мукли тон при перкусији база плућа (изли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итак ТТ (узнапредовала С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хикардиј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ea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ећај надут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ан пул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итак апет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хипнеа (&gt; 16 удаха/мину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ea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узија (нарочито код старији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епатомегалиј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пресиј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ците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ea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питациј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хексиј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коп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ea"/>
                    </a:solidFill>
                  </a:tcPr>
                </a:tc>
              </a:tr>
            </a:tbl>
          </a:graphicData>
        </a:graphic>
      </p:graphicFrame>
      <p:sp>
        <p:nvSpPr>
          <p:cNvPr id="126" name="Title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MS PGothic"/>
              </a:rPr>
              <a:t>Симптоми и знаци типични за 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ESC"/>
          <p:cNvPicPr/>
          <p:nvPr/>
        </p:nvPicPr>
        <p:blipFill>
          <a:blip r:embed="rId1"/>
          <a:stretch/>
        </p:blipFill>
        <p:spPr>
          <a:xfrm>
            <a:off x="-30240" y="-23760"/>
            <a:ext cx="10731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680" y="1143000"/>
            <a:ext cx="79293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 - дијагн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28760" y="2459160"/>
            <a:ext cx="8321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триуретски пептиди (ANP, BNP, NT-proBN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иничка вреднос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скључујући фактор за присуство 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лна вреднос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ражити друге разлоге диспнеје и симп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сок</a:t>
            </a:r>
            <a:r>
              <a:rPr b="0" lang="sr-Latn-C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едност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ткрива оне са највећим ризиком за озбиљне кардиоваскуларне догађаје укључујући и см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терапија СИ снижава ниво натриуретских пептида и може побољшати исход и прогно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пертрофија ЛК, валвуларне мане, миокардна исхемија, плућна емболија </a:t>
            </a:r>
            <a:r>
              <a:rPr b="0" lang="en-US" sz="1800" spc="-1" strike="noStrike">
                <a:solidFill>
                  <a:srgbClr val="c00000"/>
                </a:solidFill>
                <a:latin typeface="Wingdings 3"/>
                <a:ea typeface="Wingdings 3"/>
              </a:rPr>
              <a:t>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њихову концентрацију у пла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ESC"/>
          <p:cNvPicPr/>
          <p:nvPr/>
        </p:nvPicPr>
        <p:blipFill>
          <a:blip r:embed="rId1"/>
          <a:stretch/>
        </p:blipFill>
        <p:spPr>
          <a:xfrm>
            <a:off x="96840" y="115920"/>
            <a:ext cx="10731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714240" y="2500200"/>
            <a:ext cx="7925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хокардиограф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јективни налаз срчане дисфункци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иру је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 за дијагнозу 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 параметар за дефинис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олне дисфункције 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ФЛК(EF&gt;50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утврди дијагноза С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окардиографија може помоћ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финисању етиолог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1143000"/>
            <a:ext cx="79293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 - дијагн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ESC"/>
          <p:cNvPicPr/>
          <p:nvPr/>
        </p:nvPicPr>
        <p:blipFill>
          <a:blip r:embed="rId1"/>
          <a:stretch/>
        </p:blipFill>
        <p:spPr>
          <a:xfrm>
            <a:off x="96840" y="115920"/>
            <a:ext cx="10731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500040" y="2563920"/>
            <a:ext cx="835812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: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фармаколошко лечење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укација пацијената и пород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 телесне тежине (&gt;2kg/3дана – корекција дозе диуре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 уноса соли и течности (не &gt;1.2-1.5 литара/дан у тешкој С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анак пуш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а телесне тежине (БМИ &gt; 30kg/m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loud Callout 9"/>
          <p:cNvSpPr/>
          <p:nvPr/>
        </p:nvSpPr>
        <p:spPr>
          <a:xfrm>
            <a:off x="5357880" y="4981680"/>
            <a:ext cx="2214360" cy="7333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704200" y="507204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*БМИ=TT/TВ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9297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- 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ESC"/>
          <p:cNvPicPr/>
          <p:nvPr/>
        </p:nvPicPr>
        <p:blipFill>
          <a:blip r:embed="rId1"/>
          <a:stretch/>
        </p:blipFill>
        <p:spPr>
          <a:xfrm>
            <a:off x="96840" y="115920"/>
            <a:ext cx="10731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MS PGothic"/>
              </a:rPr>
              <a:t>Лекови који се најчешће користе код пацијената са HF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MS PGothic"/>
              </a:rPr>
              <a:t>r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MS PGothic"/>
              </a:rPr>
              <a:t>EF – стадијум Ц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500120"/>
          <a:ext cx="8229600" cy="4253040"/>
        </p:xfrm>
        <a:graphic>
          <a:graphicData uri="http://schemas.openxmlformats.org/drawingml/2006/table">
            <a:tbl>
              <a:tblPr/>
              <a:tblGrid>
                <a:gridCol w="1984320"/>
                <a:gridCol w="1897200"/>
                <a:gridCol w="1811160"/>
                <a:gridCol w="2536920"/>
              </a:tblGrid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тна дневна доза(е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на доза(е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ечне дозе постигнуте у клиничким студија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ЦЕ инхибитор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topr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5 mg 3 пу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mg 3 пу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.7 mg/d (421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alapr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 mg 2 пу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 mg 2 пу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6 mg/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1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sinopr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-10 mg 1 днев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mg 1 днев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inopr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-5 mg  1 днев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40 mg 1 днев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5 to 35.0 mg/d (44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ndopr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mg 1 днев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16 mg 1 днев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napr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mg 2 пу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mg 2 пу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mipr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-2.5 mg 1 днев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g 1 днев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dolapr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g 1 днев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mg 1 днев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окатори ангиотензинских рецептора (АР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desarta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8 mg 1 днев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mg 1 днев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mg/d (41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sarta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50 mg 1 днев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-150 mg 1 днев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 mg/d (42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sarta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40 mg 2 пу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 mg 2 пу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 mg/d (10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агонисти алдостеро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ironolact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-25 mg 1 днев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mg 1-2 пу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mg/d (42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leren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mg 1 днев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mg 1 днев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6 mg/d (4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1" name="Picture 11" descr=""/>
          <p:cNvPicPr/>
          <p:nvPr/>
        </p:nvPicPr>
        <p:blipFill>
          <a:blip r:embed="rId1"/>
          <a:stretch/>
        </p:blipFill>
        <p:spPr>
          <a:xfrm>
            <a:off x="7358040" y="6132600"/>
            <a:ext cx="17859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380880" y="2000160"/>
          <a:ext cx="8229600" cy="4145040"/>
        </p:xfrm>
        <a:graphic>
          <a:graphicData uri="http://schemas.openxmlformats.org/drawingml/2006/table">
            <a:tbl>
              <a:tblPr/>
              <a:tblGrid>
                <a:gridCol w="1984320"/>
                <a:gridCol w="1897200"/>
                <a:gridCol w="1811520"/>
                <a:gridCol w="2536560"/>
              </a:tblGrid>
              <a:tr h="42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тна дневна доза(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на доза(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ечна доза постигнута у клиничким студија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а-блокато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soprol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 mg 1 днев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g 1 днев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6 mg/d (11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vedil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25 mg 2 пу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mg 2 пу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mg/d (44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vedilol 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g 1 днев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mg 1 днев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prolol succinate extended release (metoprolol CR/X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-25 mg 1 днев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mg 1 днев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 mg/d (4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дралазин и изосорбид-динитр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ација у фиксној доз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5 mg hydralazine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mg isosorbide dinitrate 3 пу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mg hydralazine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 mg isosorbide dinitrate 3 пу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175 mg hydralazine/90 mg isosorbide dinitrate днев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dralazine and isosorbide dinitr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dralazine: 25-50 mg, 3 или 4 пута дневно и isorsorbide dinitrate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30 m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или 4 пута днев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dralazine: 300 mg дневно у подељеним дозама и isosorbide dinitrate 120 mg дневно у подељеним доза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MS PGothic"/>
              </a:rPr>
              <a:t>Лекови који се најчешће користе код пацијената са HF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MS PGothic"/>
              </a:rPr>
              <a:t>r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MS PGothic"/>
              </a:rPr>
              <a:t>EF – стадијум Ц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"/>
          <p:cNvPicPr/>
          <p:nvPr/>
        </p:nvPicPr>
        <p:blipFill>
          <a:blip r:embed="rId1"/>
          <a:stretch/>
        </p:blipFill>
        <p:spPr>
          <a:xfrm>
            <a:off x="7358040" y="6132600"/>
            <a:ext cx="17859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9297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- 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42960" y="2378160"/>
            <a:ext cx="791064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ЦE-инхибито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ва терапијска линија код пацијената са редукованом функциј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ве коморе, ЕФЛК&lt;40-4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одсуству ретенције течности дају се као први терапијски из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постојања ретенције течности дају се истовремено 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урет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жљиво титрирање дозе до максималне препоручене у вели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ESC"/>
          <p:cNvPicPr/>
          <p:nvPr/>
        </p:nvPicPr>
        <p:blipFill>
          <a:blip r:embed="rId1"/>
          <a:stretch/>
        </p:blipFill>
        <p:spPr>
          <a:xfrm>
            <a:off x="96840" y="115920"/>
            <a:ext cx="10731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428760" y="2222640"/>
            <a:ext cx="842940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ЦE-инхибитори (+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јвећу корист имају пацијенти са најтежим обликом</a:t>
            </a:r>
            <a:r>
              <a:rPr b="1" lang="sr-Latn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ољшавају преживљавање код пацијената са СИ токо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ољшање функционалне способности– спречава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рш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е ЛК и смањују даљу дилатацију ср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ЦЕ-инхибитори (--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омно побољшање толеранције нап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воде до смањења величине ср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вољан ефекат се врло брзо губи по престанку</a:t>
            </a:r>
            <a:r>
              <a:rPr b="1" lang="sr-Latn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ап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9297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- 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ESC"/>
          <p:cNvPicPr/>
          <p:nvPr/>
        </p:nvPicPr>
        <p:blipFill>
          <a:blip r:embed="rId1"/>
          <a:stretch/>
        </p:blipFill>
        <p:spPr>
          <a:xfrm>
            <a:off x="96840" y="115920"/>
            <a:ext cx="10731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1428480"/>
            <a:ext cx="80726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 - дефини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71320" y="3071880"/>
            <a:ext cx="80722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чана инсуфицијенција је патофизиолошко стање у коме је поремећена срчана функција, узрок немогућности срца да функционише као пумпа и обезбеди довољно снабдевање крвљу, да би се задовољиле потребе организма за кисеоник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ESC"/>
          <p:cNvPicPr/>
          <p:nvPr/>
        </p:nvPicPr>
        <p:blipFill>
          <a:blip r:embed="rId1"/>
          <a:stretch/>
        </p:blipFill>
        <p:spPr>
          <a:xfrm>
            <a:off x="96840" y="115920"/>
            <a:ext cx="10731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5"/>
          <p:cNvSpPr/>
          <p:nvPr/>
        </p:nvSpPr>
        <p:spPr>
          <a:xfrm>
            <a:off x="500040" y="2479680"/>
            <a:ext cx="8358120" cy="38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окатори рецептора ангиотензина II (AРБ) - valsartan, losarta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ије 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ју неподношења AЦE-инхибитор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дан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значај као терапијски избор равноправан са 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тор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Р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та блок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бољшавају симптоме СИ и смањују мортал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9297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- 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ESC"/>
          <p:cNvPicPr/>
          <p:nvPr/>
        </p:nvPicPr>
        <p:blipFill>
          <a:blip r:embed="rId1"/>
          <a:stretch/>
        </p:blipFill>
        <p:spPr>
          <a:xfrm>
            <a:off x="96840" y="115920"/>
            <a:ext cx="10731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214200" y="2109960"/>
            <a:ext cx="885348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тагонисти алдостеронских рецептора – спиронолак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додатак ACE инхибиторима, бета блокади и диуретицима 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предовалој СИ (III-I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та блока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д скорашњег ИМ, систолне дисфункције ЛК са СИ и дијабетес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мањују мортал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9297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- 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ESC"/>
          <p:cNvPicPr/>
          <p:nvPr/>
        </p:nvPicPr>
        <p:blipFill>
          <a:blip r:embed="rId1"/>
          <a:stretch/>
        </p:blipFill>
        <p:spPr>
          <a:xfrm>
            <a:off x="96840" y="115920"/>
            <a:ext cx="10731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428760" y="2751120"/>
            <a:ext cx="84294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уретиц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к избора у СИ са ретенцијом течности – конгестија плућа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иферни еде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ољшање диспнеје, боља толеранција напора (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ка пуњења Л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к се дају у комбинацији са АЦE инхибиторима или ß-блокер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9297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- 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ESC"/>
          <p:cNvPicPr/>
          <p:nvPr/>
        </p:nvPicPr>
        <p:blipFill>
          <a:blip r:embed="rId1"/>
          <a:stretch/>
        </p:blipFill>
        <p:spPr>
          <a:xfrm>
            <a:off x="96840" y="115920"/>
            <a:ext cx="10731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500040" y="2316240"/>
            <a:ext cx="835812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уретиц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а С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иазидни диуретици (хидрохлортиазид, метолазон, индапами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шка С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иуретици Хенлеове петље (фуросемид, торасеми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Комбинација тиазидни диуретик + диуретик Х.петљ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Диуретици који штеде K+ (спиронолактон, амилори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ко се уз AЦE-инхибитор одржава хипоK, и ако нема ефекта претходна комбина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9297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- 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ESC"/>
          <p:cNvPicPr/>
          <p:nvPr/>
        </p:nvPicPr>
        <p:blipFill>
          <a:blip r:embed="rId1"/>
          <a:stretch/>
        </p:blipFill>
        <p:spPr>
          <a:xfrm>
            <a:off x="96840" y="115920"/>
            <a:ext cx="10731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"/>
          <p:cNvSpPr/>
          <p:nvPr/>
        </p:nvSpPr>
        <p:spPr>
          <a:xfrm>
            <a:off x="214200" y="2306520"/>
            <a:ext cx="89298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та блока</a:t>
            </a:r>
            <a:r>
              <a:rPr b="1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ри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свих пацијената са стабилном, благом, умереном, тешком СИ узрокованом исхемијском или неисхемијском кардиомиопатијом и </a:t>
            </a:r>
            <a:r>
              <a:rPr b="0" lang="en-US" sz="2000" spc="-1" strike="noStrike">
                <a:solidFill>
                  <a:srgbClr val="c00000"/>
                </a:solidFill>
                <a:latin typeface="Wingdings 3"/>
                <a:ea typeface="Wingdings 3"/>
              </a:rPr>
              <a:t>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Ф, NYHA II-IV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АЦE-инхибитор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Б и диуре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свих пацијената са систолном дисфункцијом ЛК са или без СИ након А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та блокад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ЦE-инхибитор</a:t>
            </a:r>
            <a:r>
              <a:rPr b="1" lang="sr-Latn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A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Б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мањење морталитета, боља функција 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9297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- 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ESC"/>
          <p:cNvPicPr/>
          <p:nvPr/>
        </p:nvPicPr>
        <p:blipFill>
          <a:blip r:embed="rId1"/>
          <a:stretch/>
        </p:blipFill>
        <p:spPr>
          <a:xfrm>
            <a:off x="96840" y="115920"/>
            <a:ext cx="10731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1143000" y="2735280"/>
            <a:ext cx="739152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та-блока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ри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- контраиндикаци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а ХОБ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атска брадикардија или хипо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9297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- 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ESC"/>
          <p:cNvPicPr/>
          <p:nvPr/>
        </p:nvPicPr>
        <p:blipFill>
          <a:blip r:embed="rId1"/>
          <a:stretch/>
        </p:blipFill>
        <p:spPr>
          <a:xfrm>
            <a:off x="96840" y="115920"/>
            <a:ext cx="10731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214280" y="1463760"/>
          <a:ext cx="6643800" cy="5394240"/>
        </p:xfrm>
        <a:graphic>
          <a:graphicData uri="http://schemas.openxmlformats.org/drawingml/2006/table">
            <a:tbl>
              <a:tblPr/>
              <a:tblGrid>
                <a:gridCol w="2214720"/>
                <a:gridCol w="2214720"/>
                <a:gridCol w="221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тна доза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љана доза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m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ЦЕ инхиби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top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5      - 3 пута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     - 3 пута днен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alapr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        - 2 пута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 – 2 пута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inopr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-5.0 – 1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35 – 1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mipr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        - 1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       - 2 пута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dolapr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        - 1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       - 1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а блок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soprolo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      - 1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     - 1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vedilo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25    - 2 пута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50 – 2 пута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prolol succinate (CR/X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/25 – 1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   - 1 дневн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bivolo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       - 1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     - 1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окатор ангиотензинских рецептора (АР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desarta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или 8  - 1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- 1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sarta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         - 2 пута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    - 2 пута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sarta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         - 1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   - 1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агониста минералокортикоидних рецеп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leren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 - 1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     - 1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ironolacto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 - 1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50 -1 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</a:tr>
            </a:tbl>
          </a:graphicData>
        </a:graphic>
      </p:graphicFrame>
      <p:sp>
        <p:nvSpPr>
          <p:cNvPr id="170" name="Title 1"/>
          <p:cNvSpPr/>
          <p:nvPr/>
        </p:nvSpPr>
        <p:spPr>
          <a:xfrm>
            <a:off x="857160" y="71280"/>
            <a:ext cx="7510680" cy="10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зирање лекова за лечење СИ засновано на доказима – лекови коришћени у кључним рандомизованим студијама са СИ (или након И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ESC"/>
          <p:cNvPicPr/>
          <p:nvPr/>
        </p:nvPicPr>
        <p:blipFill>
          <a:blip r:embed="rId1"/>
          <a:stretch/>
        </p:blipFill>
        <p:spPr>
          <a:xfrm>
            <a:off x="-30240" y="-23760"/>
            <a:ext cx="10731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142920" y="2543040"/>
            <a:ext cx="88581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икозиди Дигитали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СИ са атријалном фибрилацијом побољшава срчану</a:t>
            </a:r>
            <a:r>
              <a:rPr b="0" lang="sr-Latn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ункцију и симпто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 II-I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италис + Бета блокада имају боље дејство о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е терап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инусном ритму и перзистентној СИ збо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функције ЛК по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уретика и AЦE-инхибитора,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италис побољшава клинички стат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ма утицаја на морталитет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9297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- 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ESC"/>
          <p:cNvPicPr/>
          <p:nvPr/>
        </p:nvPicPr>
        <p:blipFill>
          <a:blip r:embed="rId1"/>
          <a:stretch/>
        </p:blipFill>
        <p:spPr>
          <a:xfrm>
            <a:off x="96840" y="115920"/>
            <a:ext cx="10731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5"/>
          <p:cNvSpPr/>
          <p:nvPr/>
        </p:nvSpPr>
        <p:spPr>
          <a:xfrm>
            <a:off x="428760" y="2263680"/>
            <a:ext cx="8240400" cy="42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икозиди Дигитали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оксин – излучује се путем бубр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оксин – метаболише се у јет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икозиди Дигиталиса - контраиндикације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дикард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блок II/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 синусног ч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калемија, хиперкалц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9297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- 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ESC"/>
          <p:cNvPicPr/>
          <p:nvPr/>
        </p:nvPicPr>
        <p:blipFill>
          <a:blip r:embed="rId1"/>
          <a:stretch/>
        </p:blipFill>
        <p:spPr>
          <a:xfrm>
            <a:off x="96840" y="115920"/>
            <a:ext cx="10731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5"/>
          <p:cNvSpPr/>
          <p:nvPr/>
        </p:nvSpPr>
        <p:spPr>
          <a:xfrm>
            <a:off x="500040" y="2565360"/>
            <a:ext cx="807408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зодилататори (хидралазин, нитрати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стоји специфична улога у терапији СИ али су додатна 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ангину пекторис, хипертензију, смањују диспне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нтолеранцији на AЦE-инхибиторе и AРБ добра замена 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лазин-изосорбид динитрат –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мањује морталитет и морбид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побољшава квалитет жив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9297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- 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ESC"/>
          <p:cNvPicPr/>
          <p:nvPr/>
        </p:nvPicPr>
        <p:blipFill>
          <a:blip r:embed="rId1"/>
          <a:stretch/>
        </p:blipFill>
        <p:spPr>
          <a:xfrm>
            <a:off x="96840" y="115920"/>
            <a:ext cx="10731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ontent Placeholder 2"/>
          <p:cNvSpPr/>
          <p:nvPr/>
        </p:nvSpPr>
        <p:spPr>
          <a:xfrm>
            <a:off x="642960" y="2643120"/>
            <a:ext cx="77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чана инсуфицијенциј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лтисистемска болест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јој постоје функционална оштећења великог броја органа насталих као последица немогућности срца да задовољи потребе њихове перфузије.</a:t>
            </a:r>
            <a:br>
              <a:rPr sz="2400"/>
            </a:b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е карактеристике срчане инсуфицијенције резултат су примарних промена на срцу које су у почетку ултраструктурне а потом структурн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1214280"/>
            <a:ext cx="80722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 - дефини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ESC"/>
          <p:cNvPicPr/>
          <p:nvPr/>
        </p:nvPicPr>
        <p:blipFill>
          <a:blip r:embed="rId1"/>
          <a:stretch/>
        </p:blipFill>
        <p:spPr>
          <a:xfrm>
            <a:off x="96840" y="115920"/>
            <a:ext cx="10731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5"/>
          <p:cNvSpPr/>
          <p:nvPr/>
        </p:nvSpPr>
        <p:spPr>
          <a:xfrm>
            <a:off x="0" y="2143080"/>
            <a:ext cx="91440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титромбоцитна / Антикоагулантна терап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достатку јасних доказа не саветује се хронич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антиагрегационе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коагулантне терапи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болесника са СИ у синусном рит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комолекуларни хепарин се даје профилактички непокретним болесниц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 података о бенефиту антитромботичк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тикоагулантна терапија је индикована уколико</a:t>
            </a:r>
            <a:r>
              <a:rPr b="0" lang="sr-Latn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тоји АФ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ална антикоагулантна терапија смањује ризик од можданог удара болес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 СИ и А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9297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- 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ESC"/>
          <p:cNvPicPr/>
          <p:nvPr/>
        </p:nvPicPr>
        <p:blipFill>
          <a:blip r:embed="rId1"/>
          <a:stretch/>
        </p:blipFill>
        <p:spPr>
          <a:xfrm>
            <a:off x="96840" y="115920"/>
            <a:ext cx="10731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5"/>
          <p:cNvSpPr/>
          <p:nvPr/>
        </p:nvSpPr>
        <p:spPr>
          <a:xfrm>
            <a:off x="428760" y="2471760"/>
            <a:ext cx="84294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тиаритмиц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но не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дикација за примену у 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ецифичне индикације: атријална фибрилација, non sustained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stained тахикардија ком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класу избегавати због проаритмијског дејства на нивоу комор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вољне ефекте на хемодинам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аритмици II класе – бета локада – смању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сну смрт у 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9297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- 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ESC"/>
          <p:cNvPicPr/>
          <p:nvPr/>
        </p:nvPicPr>
        <p:blipFill>
          <a:blip r:embed="rId1"/>
          <a:stretch/>
        </p:blipFill>
        <p:spPr>
          <a:xfrm>
            <a:off x="96840" y="115920"/>
            <a:ext cx="10731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6"/>
          <p:cNvSpPr/>
          <p:nvPr/>
        </p:nvSpPr>
        <p:spPr>
          <a:xfrm>
            <a:off x="642960" y="2119320"/>
            <a:ext cx="792468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: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отреба апарата и хируршко 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TCA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аскуларизација миокарда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вуларна хирургија (митрална инсуфицијенција)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јсмејкери (брадикардија, ресинхронизација, имплантабил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вертер дефибрилатор, ЕФ &lt;35%, QRS&gt;120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лантација ср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миопл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9297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- 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ESC"/>
          <p:cNvPicPr/>
          <p:nvPr/>
        </p:nvPicPr>
        <p:blipFill>
          <a:blip r:embed="rId1"/>
          <a:stretch/>
        </p:blipFill>
        <p:spPr>
          <a:xfrm>
            <a:off x="96840" y="115920"/>
            <a:ext cx="10731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714240" y="2500200"/>
            <a:ext cx="7925040" cy="34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зитивно инотропни лекови - добутам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кција хемодинамских поремећаја тешких епизода погоршања СИ као прелаз ка трансплантац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аминергички лекови - допам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трајна корекција тежих епизода погоршања 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лим дозама 3-5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/kg/мин побољшава проток кроз бубр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9297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- 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ESC"/>
          <p:cNvPicPr/>
          <p:nvPr/>
        </p:nvPicPr>
        <p:blipFill>
          <a:blip r:embed="rId1"/>
          <a:stretch/>
        </p:blipFill>
        <p:spPr>
          <a:xfrm>
            <a:off x="96840" y="115920"/>
            <a:ext cx="10731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8072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кови за лечење акутне СИ са позитивним инотропним, вазопресорним или оба деј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28760" y="2000160"/>
          <a:ext cx="8286480" cy="4816440"/>
        </p:xfrm>
        <a:graphic>
          <a:graphicData uri="http://schemas.openxmlformats.org/drawingml/2006/table">
            <a:tbl>
              <a:tblPr/>
              <a:tblGrid>
                <a:gridCol w="1785960"/>
                <a:gridCol w="3571560"/>
                <a:gridCol w="2928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1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у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1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узиј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181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butami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20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/kg/min (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d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pami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3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/kg/min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ат на бубреге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/kg/m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инотропно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)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5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/kg/m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), вазопресорно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)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rino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75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/kg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оком 10-20 минута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75- 0.75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/kg/m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d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oximo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-1.0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/kg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оком 5-10 минута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20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/kg/m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osimenda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/kg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оком 10 минута (опцио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/kg/m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може се смањити на 0.05 или повећати на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.2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/kg/m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d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epinephri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-1.0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/kg/m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nephri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ус: 1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е може дати интравенски током ресусцитације, понавља се на 3-5 мину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-0.5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/kg/m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dff"/>
                    </a:solidFill>
                  </a:tcPr>
                </a:tc>
              </a:tr>
            </a:tbl>
          </a:graphicData>
        </a:graphic>
      </p:graphicFrame>
      <p:pic>
        <p:nvPicPr>
          <p:cNvPr id="195" name="Picture 4" descr="ESC"/>
          <p:cNvPicPr/>
          <p:nvPr/>
        </p:nvPicPr>
        <p:blipFill>
          <a:blip r:embed="rId1"/>
          <a:stretch/>
        </p:blipFill>
        <p:spPr>
          <a:xfrm>
            <a:off x="-30240" y="-23760"/>
            <a:ext cx="10731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400" y="1214280"/>
            <a:ext cx="80722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ципитирајући фактори и узроци акутне 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14200" y="2008080"/>
          <a:ext cx="4143600" cy="4105440"/>
        </p:xfrm>
        <a:graphic>
          <a:graphicData uri="http://schemas.openxmlformats.org/drawingml/2006/table">
            <a:tbl>
              <a:tblPr/>
              <a:tblGrid>
                <a:gridCol w="41436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гађаји који доводе до брзог погорша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181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за аритмија или тешка брадикардија/поремећај спровође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d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ханичке компликације АКС (руптура интервентрикуларног септума, руптура хорде митралне валвуле, инфаркт десне комор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тна емболија плућ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d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пертензива кри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чана тампон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dff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екција аор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шки и периоперативни поремећај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d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партална кардиомиопат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357800" y="2008080"/>
          <a:ext cx="4572000" cy="485460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гађаји који доводе до споријег погорша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181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је (укључујући инфективни ендокардити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dff"/>
                    </a:solidFill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гзацербација ХОБП-а/аст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миј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d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ја бубре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идржавање прописаној терапији/диј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d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атрогени узроци (прописивање НСАИЛ или кортикостероида, интеракције леко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итмије, брадикардије, и поремећаји спровођења који не воде до изненадне, тешке промене срчане фреквен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d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нтролисана хипертенз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по или хипертирео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df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употреба лекова или алкох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99" name="Picture 4" descr="ESC"/>
          <p:cNvPicPr/>
          <p:nvPr/>
        </p:nvPicPr>
        <p:blipFill>
          <a:blip r:embed="rId1"/>
          <a:stretch/>
        </p:blipFill>
        <p:spPr>
          <a:xfrm>
            <a:off x="-30240" y="-23760"/>
            <a:ext cx="10731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72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зе најчешће коришћених диуретика у лечењу СИ (са/без очуване ЕФ, хроничне и акутне С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42960" y="1284120"/>
          <a:ext cx="8001000" cy="5507280"/>
        </p:xfrm>
        <a:graphic>
          <a:graphicData uri="http://schemas.openxmlformats.org/drawingml/2006/table">
            <a:tbl>
              <a:tblPr/>
              <a:tblGrid>
                <a:gridCol w="2521080"/>
                <a:gridCol w="1325520"/>
                <a:gridCol w="1326960"/>
                <a:gridCol w="1413000"/>
                <a:gridCol w="1414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урети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тна доза (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обичајена дневна доза (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уретици Хенлеове петљ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rose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metani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-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rasemi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јазидни диуретиц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ndroflumethiazi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drochlorothiazi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-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lazo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apami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уретици који штеде калиј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96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АЦЕ/АР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96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ЦЕ/АР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96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АЦЕ/АР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96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ЦЕ/АР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96b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ironolactone/eplere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-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ilori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amtere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202" name="Picture 4" descr="ESC"/>
          <p:cNvPicPr/>
          <p:nvPr/>
        </p:nvPicPr>
        <p:blipFill>
          <a:blip r:embed="rId1"/>
          <a:stretch/>
        </p:blipFill>
        <p:spPr>
          <a:xfrm>
            <a:off x="-30240" y="-23760"/>
            <a:ext cx="10731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D:\Srdjan\Goran\Predavanja\sleep apnoea and hf\chronic-heart-failure-patientxk.jpg"/>
          <p:cNvPicPr/>
          <p:nvPr/>
        </p:nvPicPr>
        <p:blipFill>
          <a:blip r:embed="rId1"/>
          <a:stretch/>
        </p:blipFill>
        <p:spPr>
          <a:xfrm>
            <a:off x="142920" y="1428840"/>
            <a:ext cx="4714920" cy="5032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D:\Srdjan\Goran\Predavanja\PPT\Slicice za ppt\big-heart_000005851532xsmall1.jpg"/>
          <p:cNvPicPr/>
          <p:nvPr/>
        </p:nvPicPr>
        <p:blipFill>
          <a:blip r:embed="rId2"/>
          <a:stretch/>
        </p:blipFill>
        <p:spPr>
          <a:xfrm>
            <a:off x="4857840" y="1928880"/>
            <a:ext cx="42274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0726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 - дефини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57120" y="2162160"/>
          <a:ext cx="8429760" cy="4052880"/>
        </p:xfrm>
        <a:graphic>
          <a:graphicData uri="http://schemas.openxmlformats.org/drawingml/2006/table">
            <a:tbl>
              <a:tblPr/>
              <a:tblGrid>
                <a:gridCol w="842976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јагноза срчане инсуфицијен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c96b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јагноза срчане инсуфицијенције са смањеном ЕФ (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rEF)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умева испуњена три критерију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имптоми типични за срчану инсуфицијенциј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Знаци типични за срчану инсуфицијенциј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мањена ејекциона фракција Л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јагноза срчане инсуфицијенције са очуваном ЕФ (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pEF)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умева испуњена 4 критерију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имптоми типични за срчану инсуфицијенциј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Знаци типични за срчану инсуфицијенциј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ормална или само благо смањена ејекциона фракција ЛК без дилатације Л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Значајна структурна болест срца (хипертрофија ЛК / увећање ЛП) и/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јастолна дисфункц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5" name="Picture 4" descr="ESC"/>
          <p:cNvPicPr/>
          <p:nvPr/>
        </p:nvPicPr>
        <p:blipFill>
          <a:blip r:embed="rId1"/>
          <a:stretch/>
        </p:blipFill>
        <p:spPr>
          <a:xfrm>
            <a:off x="-30240" y="-23760"/>
            <a:ext cx="10731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0726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 - дефини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14200" y="1785960"/>
          <a:ext cx="8715600" cy="4249800"/>
        </p:xfrm>
        <a:graphic>
          <a:graphicData uri="http://schemas.openxmlformats.org/drawingml/2006/table">
            <a:tbl>
              <a:tblPr/>
              <a:tblGrid>
                <a:gridCol w="2300400"/>
                <a:gridCol w="1057320"/>
                <a:gridCol w="5357880"/>
              </a:tblGrid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Класификац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Ејекциона фракц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Опи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I. Срчана инсуфицијенција са смањеном ЕФ (HF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E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≤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Позната и као систолна СИ. Већина рандомизованих клиничких студија испитивала је пацијенте с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HF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EF и до данас је ефикасност терапије доказана једино код ових пацијен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II. Срчана инсуфицијенција са очуваном ЕФ (HF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E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Позната и као дијастолна СИ. Неколико различитих критеријума користи се за даље дефинисање HF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EF. Постављање дијагноз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 HF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EF је изазов  јер треба искључити и друге потенцијалне несрчане узроке симптома који указују на СИ. До сда није откривена ефикасна терап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a. HF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EF, гранич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41%  до 4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Ови пацијенти спадају у граничну или интермедијарну групу. Њихове карактеристике, лечење и исход су слични као код пацијената са HF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E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b. HF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EF, узнапредова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&gt;4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Ова подгрупа пацијената са HF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EF имала је претходно HF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EF. Ови пацијенти са побољшањем ЕФ или опоравком могу бити клиинички разлити од пацијената са трајно очуваном или смањеном ЕФ. Даља испитивања су неопходна код ових пацијен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11" descr=""/>
          <p:cNvPicPr/>
          <p:nvPr/>
        </p:nvPicPr>
        <p:blipFill>
          <a:blip r:embed="rId1"/>
          <a:stretch/>
        </p:blipFill>
        <p:spPr>
          <a:xfrm>
            <a:off x="7358040" y="6132600"/>
            <a:ext cx="17859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ontent Placeholder 9"/>
          <p:cNvSpPr/>
          <p:nvPr/>
        </p:nvSpPr>
        <p:spPr>
          <a:xfrm>
            <a:off x="0" y="57150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kstein et al. Eur Heart J. 2008; 29:2388-44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et al. Circulation. 2013;127:e6-e245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nder et al. Coronary Heart Disease Statistics. 2008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g et al. Hong Kong Med J. 2000; 6:159-6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t et al. J Am Coll Cardiol. 2009; 53:e1-9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arney et al. Lancet. 2005;365:217-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400" y="9284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 – велики јавно-здравствени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2867040" cy="3819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786040" y="1919160"/>
            <a:ext cx="2604960" cy="2724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5286240" y="1928880"/>
            <a:ext cx="3733920" cy="3857400"/>
          </a:xfrm>
          <a:prstGeom prst="rect">
            <a:avLst/>
          </a:prstGeom>
          <a:ln w="0">
            <a:noFill/>
          </a:ln>
        </p:spPr>
      </p:pic>
      <p:sp>
        <p:nvSpPr>
          <p:cNvPr id="64" name="Rounded Rectangle 14"/>
          <p:cNvSpPr/>
          <p:nvPr/>
        </p:nvSpPr>
        <p:spPr>
          <a:xfrm>
            <a:off x="142920" y="200016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АЛЕН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15"/>
          <p:cNvSpPr/>
          <p:nvPr/>
        </p:nvSpPr>
        <p:spPr>
          <a:xfrm>
            <a:off x="2867040" y="2071800"/>
            <a:ext cx="263376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ЦИДЕНЦА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</a:t>
            </a:r>
            <a:r>
              <a:rPr b="1" lang="sr-Latn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еви</a:t>
            </a:r>
            <a:r>
              <a:rPr b="1" lang="sr-Latn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.000/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1" lang="sr-Latn-C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21"/>
          <p:cNvSpPr/>
          <p:nvPr/>
        </p:nvSpPr>
        <p:spPr>
          <a:xfrm>
            <a:off x="6215040" y="192888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22"/>
          <p:cNvSpPr/>
          <p:nvPr/>
        </p:nvSpPr>
        <p:spPr>
          <a:xfrm>
            <a:off x="142920" y="4929120"/>
            <a:ext cx="207180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од 5 особа старих 70-80 година има 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26"/>
          <p:cNvSpPr/>
          <p:nvPr/>
        </p:nvSpPr>
        <p:spPr>
          <a:xfrm>
            <a:off x="142920" y="392904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ациј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и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27"/>
          <p:cNvSpPr/>
          <p:nvPr/>
        </p:nvSpPr>
        <p:spPr>
          <a:xfrm>
            <a:off x="5143680" y="3429000"/>
            <a:ext cx="12855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1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аленце</a:t>
            </a:r>
            <a:r>
              <a:rPr b="1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</a:t>
            </a:r>
            <a:r>
              <a:rPr b="1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28"/>
          <p:cNvSpPr/>
          <p:nvPr/>
        </p:nvSpPr>
        <p:spPr>
          <a:xfrm>
            <a:off x="8072280" y="3500280"/>
            <a:ext cx="10717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1" lang="sr-Latn-C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а</a:t>
            </a:r>
            <a:r>
              <a:rPr b="1" lang="sr-Latn-C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ивелих</a:t>
            </a:r>
            <a:r>
              <a:rPr b="1" lang="sr-Latn-C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1" lang="sr-Latn-C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29"/>
          <p:cNvSpPr/>
          <p:nvPr/>
        </p:nvSpPr>
        <p:spPr>
          <a:xfrm>
            <a:off x="6643800" y="4857840"/>
            <a:ext cx="12859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ење</a:t>
            </a:r>
            <a:r>
              <a:rPr b="1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ац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ontent Placeholder 9"/>
          <p:cNvSpPr/>
          <p:nvPr/>
        </p:nvSpPr>
        <p:spPr>
          <a:xfrm>
            <a:off x="5357880" y="6429240"/>
            <a:ext cx="3786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um, Gilbert. Lancet. 2003; 362:147-5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cci (ed.). Atlas of Heart Failure, 5th ed. Springer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840" y="9997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личити коморбидитети и патофизиолошки процесу доводе до развоја различитих типова 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27"/>
          <p:cNvSpPr/>
          <p:nvPr/>
        </p:nvSpPr>
        <p:spPr>
          <a:xfrm>
            <a:off x="142920" y="2857680"/>
            <a:ext cx="2143080" cy="2143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е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липидем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јаз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бет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30"/>
          <p:cNvSpPr/>
          <p:nvPr/>
        </p:nvSpPr>
        <p:spPr>
          <a:xfrm>
            <a:off x="142920" y="3643200"/>
            <a:ext cx="2143080" cy="5716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енз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1"/>
          <p:cNvSpPr/>
          <p:nvPr/>
        </p:nvSpPr>
        <p:spPr>
          <a:xfrm>
            <a:off x="2928960" y="4357800"/>
            <a:ext cx="2143080" cy="5713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рофија Л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3"/>
          <p:cNvSpPr/>
          <p:nvPr/>
        </p:nvSpPr>
        <p:spPr>
          <a:xfrm>
            <a:off x="2928960" y="2857680"/>
            <a:ext cx="2143080" cy="5713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аркт миокар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35"/>
          <p:cNvSpPr/>
          <p:nvPr/>
        </p:nvSpPr>
        <p:spPr>
          <a:xfrm>
            <a:off x="8001000" y="3643200"/>
            <a:ext cx="928800" cy="5716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39"/>
          <p:cNvSpPr/>
          <p:nvPr/>
        </p:nvSpPr>
        <p:spPr>
          <a:xfrm flipV="1">
            <a:off x="2286000" y="3929040"/>
            <a:ext cx="2858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43"/>
          <p:cNvSpPr/>
          <p:nvPr/>
        </p:nvSpPr>
        <p:spPr>
          <a:xfrm flipV="1">
            <a:off x="2569320" y="3143160"/>
            <a:ext cx="1800" cy="1571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44"/>
          <p:cNvCxnSpPr/>
          <p:nvPr/>
        </p:nvCxnSpPr>
        <p:spPr>
          <a:xfrm>
            <a:off x="2571840" y="4714920"/>
            <a:ext cx="35784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82" name="Straight Arrow Connector 48"/>
          <p:cNvCxnSpPr/>
          <p:nvPr/>
        </p:nvCxnSpPr>
        <p:spPr>
          <a:xfrm>
            <a:off x="2571840" y="3142800"/>
            <a:ext cx="35784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83" name="Straight Connector 49"/>
          <p:cNvSpPr/>
          <p:nvPr/>
        </p:nvSpPr>
        <p:spPr>
          <a:xfrm>
            <a:off x="5072040" y="3141720"/>
            <a:ext cx="335772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52"/>
          <p:cNvSpPr/>
          <p:nvPr/>
        </p:nvSpPr>
        <p:spPr>
          <a:xfrm>
            <a:off x="5072040" y="4714920"/>
            <a:ext cx="335772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53"/>
          <p:cNvCxnSpPr/>
          <p:nvPr/>
        </p:nvCxnSpPr>
        <p:spPr>
          <a:xfrm flipV="1">
            <a:off x="8429760" y="421416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86" name="Straight Arrow Connector 56"/>
          <p:cNvCxnSpPr/>
          <p:nvPr/>
        </p:nvCxnSpPr>
        <p:spPr>
          <a:xfrm>
            <a:off x="8428680" y="3142800"/>
            <a:ext cx="1080" cy="50076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87" name="Oval 60"/>
          <p:cNvSpPr/>
          <p:nvPr/>
        </p:nvSpPr>
        <p:spPr>
          <a:xfrm>
            <a:off x="5357880" y="3071880"/>
            <a:ext cx="2286000" cy="857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олна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фунцк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1"/>
          <p:cNvSpPr/>
          <p:nvPr/>
        </p:nvSpPr>
        <p:spPr>
          <a:xfrm>
            <a:off x="5357880" y="3929040"/>
            <a:ext cx="2286000" cy="8571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столна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фунцк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62"/>
          <p:cNvCxnSpPr/>
          <p:nvPr/>
        </p:nvCxnSpPr>
        <p:spPr>
          <a:xfrm>
            <a:off x="142920" y="5500800"/>
            <a:ext cx="75729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64"/>
          <p:cNvCxnSpPr/>
          <p:nvPr/>
        </p:nvCxnSpPr>
        <p:spPr>
          <a:xfrm>
            <a:off x="7786440" y="5500800"/>
            <a:ext cx="11437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Rounded Rectangle 72"/>
          <p:cNvSpPr/>
          <p:nvPr/>
        </p:nvSpPr>
        <p:spPr>
          <a:xfrm>
            <a:off x="2928960" y="5214960"/>
            <a:ext cx="2143080" cy="285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моделовање Л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73"/>
          <p:cNvSpPr/>
          <p:nvPr/>
        </p:nvSpPr>
        <p:spPr>
          <a:xfrm>
            <a:off x="5429160" y="5000760"/>
            <a:ext cx="21430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клиничка дисфункција Л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74"/>
          <p:cNvSpPr/>
          <p:nvPr/>
        </p:nvSpPr>
        <p:spPr>
          <a:xfrm>
            <a:off x="71280" y="5000760"/>
            <a:ext cx="2143440" cy="500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а стуктура и функција Л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75"/>
          <p:cNvSpPr/>
          <p:nvPr/>
        </p:nvSpPr>
        <p:spPr>
          <a:xfrm>
            <a:off x="7500960" y="5214960"/>
            <a:ext cx="1571760" cy="285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 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6"/>
          <p:cNvSpPr/>
          <p:nvPr/>
        </p:nvSpPr>
        <p:spPr>
          <a:xfrm>
            <a:off x="3000240" y="5572080"/>
            <a:ext cx="2143440" cy="285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77"/>
          <p:cNvSpPr/>
          <p:nvPr/>
        </p:nvSpPr>
        <p:spPr>
          <a:xfrm>
            <a:off x="7286760" y="5572080"/>
            <a:ext cx="2143080" cy="285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ец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78"/>
          <p:cNvSpPr/>
          <p:nvPr/>
        </p:nvSpPr>
        <p:spPr>
          <a:xfrm>
            <a:off x="142920" y="2143080"/>
            <a:ext cx="8786880" cy="714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орбидитети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е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у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чане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фицијенције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ензија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емијска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ца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аркт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карда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е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у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чане инсуфицијенц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79"/>
          <p:cNvSpPr/>
          <p:nvPr/>
        </p:nvSpPr>
        <p:spPr>
          <a:xfrm>
            <a:off x="142920" y="5786280"/>
            <a:ext cx="8786880" cy="857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чане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фицијенције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ују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а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ЛК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40%)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олна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ако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и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ти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столне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е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увана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столна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ако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ти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у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олне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стол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функције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а инсуфицијенција – хронично стање са акутним епизод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16"/>
          <p:cNvSpPr/>
          <p:nvPr/>
        </p:nvSpPr>
        <p:spPr>
          <a:xfrm>
            <a:off x="357120" y="2000160"/>
            <a:ext cx="8429760" cy="4287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е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чане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фицијен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8"/>
          <p:cNvSpPr/>
          <p:nvPr/>
        </p:nvSpPr>
        <p:spPr>
          <a:xfrm>
            <a:off x="357120" y="2500200"/>
            <a:ext cx="414360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чана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фицијен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20"/>
          <p:cNvSpPr/>
          <p:nvPr/>
        </p:nvSpPr>
        <p:spPr>
          <a:xfrm>
            <a:off x="4572000" y="2500200"/>
            <a:ext cx="4214880" cy="42876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а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чана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фицијен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23"/>
          <p:cNvSpPr/>
          <p:nvPr/>
        </p:nvSpPr>
        <p:spPr>
          <a:xfrm>
            <a:off x="357120" y="3000240"/>
            <a:ext cx="4143600" cy="314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 акутних или прогресивн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а срчане инсуфицијенције ко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 до потребе 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спитализацијом пациј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A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а појава или промена знакова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а срчане инсуфицијенције ко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 до потребе за хитн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м (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24"/>
          <p:cNvSpPr/>
          <p:nvPr/>
        </p:nvSpPr>
        <p:spPr>
          <a:xfrm>
            <a:off x="4572000" y="3000240"/>
            <a:ext cx="4214880" cy="31435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утни или ранији симптоми срч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фицијенције повезани 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ом болешћу срца која је 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и (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A/ACC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 има срчану инсуфицијенциј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о вре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ни пацијенти се сматрај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“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им” ако знаци и симпто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чане инсуфицијенције ост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мењени &gt;1 месе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tent Placeholder 9"/>
          <p:cNvSpPr/>
          <p:nvPr/>
        </p:nvSpPr>
        <p:spPr>
          <a:xfrm>
            <a:off x="0" y="62150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 Heart Association; American College of Cardiology; European Society of Cardi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t et al. J Am Coll Cardiol. 2009; 53: e1-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Murray et al. Eur Heart J. 2012;33:1787-8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ramingham-ски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јуми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јагнозу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гестивне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чане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суфицијен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Content Placeholder 2" descr=""/>
          <p:cNvPicPr/>
          <p:nvPr/>
        </p:nvPicPr>
        <p:blipFill>
          <a:blip r:embed="rId1"/>
          <a:stretch/>
        </p:blipFill>
        <p:spPr>
          <a:xfrm>
            <a:off x="317520" y="2249640"/>
            <a:ext cx="8472600" cy="4327200"/>
          </a:xfrm>
          <a:prstGeom prst="rect">
            <a:avLst/>
          </a:prstGeom>
          <a:ln w="0">
            <a:noFill/>
          </a:ln>
        </p:spPr>
      </p:pic>
      <p:sp>
        <p:nvSpPr>
          <p:cNvPr id="108" name="Content Placeholder 8"/>
          <p:cNvSpPr/>
          <p:nvPr/>
        </p:nvSpPr>
        <p:spPr>
          <a:xfrm>
            <a:off x="4748040" y="2286000"/>
            <a:ext cx="403884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00000"/>
                </a:solidFill>
                <a:latin typeface="Times New Roman"/>
                <a:ea typeface="MS PGothic"/>
              </a:rPr>
              <a:t>Минор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MS PGothic"/>
              </a:rPr>
              <a:t> </a:t>
            </a:r>
            <a:r>
              <a:rPr b="1" lang="sr-Latn-CS" sz="1800" spc="-1" strike="noStrike">
                <a:solidFill>
                  <a:srgbClr val="c00000"/>
                </a:solidFill>
                <a:latin typeface="Times New Roman"/>
                <a:ea typeface="MS PGothic"/>
              </a:rPr>
              <a:t>критеријуми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MS P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Еде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потколениц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глежњ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Ноћ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каша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Диснеј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нап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Хепатомега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Плеурал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изл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Витал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капаците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смање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1/3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нормалн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Тахикардиј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(≥120/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ми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4"/>
          <p:cNvSpPr/>
          <p:nvPr/>
        </p:nvSpPr>
        <p:spPr>
          <a:xfrm flipV="1">
            <a:off x="4572000" y="2214360"/>
            <a:ext cx="1440" cy="40719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5840" y="6273720"/>
            <a:ext cx="84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убитак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жине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≥4,5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г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ком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апије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уже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5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на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же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ти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јор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нор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ју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јагнозу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СИ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требна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едан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јор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ва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нор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ју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ismail - [2010]</cp:lastModifiedBy>
  <dcterms:modified xsi:type="dcterms:W3CDTF">2018-02-04T19:23:38Z</dcterms:modified>
  <cp:revision>151</cp:revision>
  <dc:subject/>
  <dc:title>Slide 1</dc:title>
</cp:coreProperties>
</file>